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16203"/>
        <c:axId val="77019088"/>
      </c:barChart>
      <c:catAx>
        <c:axId val="16616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19088"/>
        <c:crosses val="autoZero"/>
        <c:auto val="1"/>
        <c:lblAlgn val="ctr"/>
        <c:lblOffset val="100"/>
        <c:noMultiLvlLbl val="0"/>
      </c:catAx>
      <c:valAx>
        <c:axId val="77019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16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D04-1A56-489D-BE2A-395A2BC8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DC8-4FD8-486E-8FC5-7418EBA8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312-27FA-42CA-B89F-1B2113BE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311-E0DA-45FF-9736-242E861E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B50-A99D-4EE3-AF44-B4E938C0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854-1BC7-412D-A304-FC63748F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927-BCE2-4B4E-9602-A95C33F3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558-7C3B-4C3A-8AAD-01B68A7F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E28-230F-45E9-81AD-414FAD70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9A6-52F0-4A82-8CC1-22989861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81F-491D-4032-8E71-250A6089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094-FBBF-4340-AAD1-055AEF8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E1085-6E21-4CA4-9D89-542DA1CC23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