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57093"/>
        <c:axId val="66320725"/>
      </c:barChart>
      <c:catAx>
        <c:axId val="58957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20725"/>
        <c:crosses val="autoZero"/>
        <c:auto val="1"/>
        <c:lblAlgn val="ctr"/>
        <c:lblOffset val="100"/>
        <c:noMultiLvlLbl val="0"/>
      </c:catAx>
      <c:valAx>
        <c:axId val="66320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57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B2A-70C0-4596-968A-91FEFA9C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A0D-8F10-4538-9A53-6240AF78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01BF-C707-48A3-8C9F-12990281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18B-2ED9-4366-B49A-68247AC5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4D1-E808-41A9-9470-2938BA6B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765-FDC5-44D1-BA08-BC219D59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152-6072-45BA-9DB2-8057E152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A7DB-C335-4117-8E48-0B64FACD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CF3-4E09-40B5-AABD-30928D09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536-E78A-4551-901D-E4EC31CB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DB4-6FC7-45BC-B78E-669D59D8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176-E5EB-4359-8021-27D041BB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F0AAC-F2C2-490E-B76C-46C20AF58A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