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87567"/>
        <c:axId val="162362"/>
      </c:barChart>
      <c:catAx>
        <c:axId val="72187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362"/>
        <c:crosses val="autoZero"/>
        <c:auto val="1"/>
        <c:lblAlgn val="ctr"/>
        <c:lblOffset val="100"/>
        <c:noMultiLvlLbl val="0"/>
      </c:catAx>
      <c:valAx>
        <c:axId val="162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87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9C4-4D23-4B96-BF2C-0F33E697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6D8-EDAA-49EA-BB4B-CC16EFBE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DA1-AABA-4F2A-9131-575B5684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E23-9888-449C-A0ED-BCA26AC9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A91-B288-44A5-A0AE-359684DD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BD9-9FDC-47C7-88C7-071975DC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2ED-3265-4897-8AB1-8A75EE48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FF7-C344-4F74-901B-2EFF76A8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AE8-0CD2-4504-82FB-5EE18E9C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C1E-ADE7-4852-B941-C9183539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D30-9A34-4CD6-AF2A-8632594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A6D-F666-4137-BC3B-DCDBD8D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2FB76-D749-4C2F-A8CF-4645EB28DD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