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36622"/>
        <c:axId val="76447991"/>
      </c:barChart>
      <c:catAx>
        <c:axId val="662366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47991"/>
        <c:crosses val="autoZero"/>
        <c:auto val="1"/>
        <c:lblAlgn val="ctr"/>
        <c:lblOffset val="100"/>
        <c:noMultiLvlLbl val="0"/>
      </c:catAx>
      <c:valAx>
        <c:axId val="764479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366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1939-1761-4210-B583-7064CD74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88F-C564-4133-89DF-36C3610C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C1A-D2CA-4BAD-963A-4D890BA7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B43D-045D-495D-9B66-1F09B875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3C5-D147-46B6-8975-57EBBDC6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A99-E866-4AED-8FF5-A9C62656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9E33-C764-47D3-8CEC-C6F0F748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D47D-014C-4481-8E68-18AEAE2E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E87-FCE5-4757-B672-E092DC17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5C1-3A15-44AC-B501-ADFE55BD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A7B-7D78-4A89-A32D-9F18B254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3E9-00BC-4A8A-B61D-C71DCBE5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8CE88-4198-440B-9B12-FBA7D93F26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