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19237"/>
        <c:axId val="40632839"/>
      </c:barChart>
      <c:catAx>
        <c:axId val="80619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2839"/>
        <c:crosses val="autoZero"/>
        <c:auto val="1"/>
        <c:lblAlgn val="ctr"/>
        <c:lblOffset val="100"/>
        <c:noMultiLvlLbl val="0"/>
      </c:catAx>
      <c:valAx>
        <c:axId val="40632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19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F84-2437-4D9A-B981-29B8491D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F08-CA3B-450B-B8B3-5A7BC6E9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DB0-3F4F-440E-A618-9CEC3835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850-1C26-475D-BDBF-0420D141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159-F285-4294-86C0-A3FD7F3C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24E-FBDF-467E-9FEC-322911D9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046-AB22-463C-A30E-EBC16B66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A5F-626C-4E43-944D-68B7C20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181-B403-44CD-8AB6-14F9BBBF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389-43FF-4DC2-A638-53B7B71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F3B-1705-4C33-843C-37A2FD0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844-7441-4151-AA36-884756D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EA36D-118A-4148-A7C6-47177926D0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