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70379"/>
        <c:axId val="48176870"/>
      </c:barChart>
      <c:catAx>
        <c:axId val="87170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76870"/>
        <c:crosses val="autoZero"/>
        <c:auto val="1"/>
        <c:lblAlgn val="ctr"/>
        <c:lblOffset val="100"/>
        <c:noMultiLvlLbl val="0"/>
      </c:catAx>
      <c:valAx>
        <c:axId val="48176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70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1C6-56D5-4F87-8263-A1416C81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6B9-0525-4564-B506-F025B151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64C-6969-4ECD-A472-D3C6F5AF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E10-3457-43E4-ABA1-2B270910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69E-F023-4AEC-8677-B96F5FD9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06A-FFB3-42FF-BEF7-7F07287F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616-FEC3-4E4A-9CFF-6C87E930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FC2-7955-47D9-ADF6-ECB738DF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D49-6708-4F6D-8C91-8F61A27F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D22-8AC1-4A81-9B3D-A524191F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AC9-19D2-46D2-8CCE-CDFB20FB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E41-4E50-4B99-9D35-5A5FB44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FC0AA-CAD6-4BF1-AC8E-2592E5263F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