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384800"/>
        <c:axId val="47255360"/>
      </c:barChart>
      <c:catAx>
        <c:axId val="813848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55360"/>
        <c:crosses val="autoZero"/>
        <c:auto val="1"/>
        <c:lblAlgn val="ctr"/>
        <c:lblOffset val="100"/>
        <c:noMultiLvlLbl val="0"/>
      </c:catAx>
      <c:valAx>
        <c:axId val="47255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848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18C0-B02C-4A00-80D4-87A4203A2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6A26-1D06-42FB-980F-145E554A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9DE7-9578-4967-98E3-78DBB12A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C4E-16B3-41C1-94D2-8A2B9C71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2C0-BA68-4BA2-A34C-268E5CE3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3F6D-91D1-481F-8573-CA460563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A84-A0AA-4D3C-BDBE-D99D2782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B5BA-E129-4FBD-BE3D-EA35F46A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F3A3-A024-4608-B30A-249C73C3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C599-F771-42A7-9F4C-32BF10E3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8762-5FDF-4049-B3C8-77269CF7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BD24-0C7E-4ECE-AC31-393223E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1307F2-7C42-4BD7-ABFD-F030B3BA5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